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A48-A001-43A3-8DDA-C7A93407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A54-8A3D-4C3D-9D40-F3DFCE8A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FFF-18FE-4AD8-A7D5-52494A3B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D0B-200D-4D2E-B27B-02F14807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DF8-991D-4A4F-AD4C-B13CA545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2A2-2BEA-4367-A0DF-95D5EB1D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252-1E39-4610-9569-14C0443E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58E-2491-45A9-BA1F-8121643F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14D-CB91-40FF-83E6-1BB3CE92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8A5-1AD4-47A6-A114-E699BE41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3BC-4AEE-498F-87C8-874A138E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955-8054-4618-9044-5D202D78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0074-BD7F-4688-A6AD-83E5E3E68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90720" y="6114960"/>
            <a:ext cx="7200720" cy="743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843560" y="6172200"/>
            <a:ext cx="39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ude et mise en place d’une plateforme de travail collabor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-logo" descr=""/>
          <p:cNvPicPr/>
          <p:nvPr/>
        </p:nvPicPr>
        <p:blipFill>
          <a:blip r:embed="rId3"/>
          <a:stretch/>
        </p:blipFill>
        <p:spPr>
          <a:xfrm>
            <a:off x="5486400" y="152280"/>
            <a:ext cx="3657600" cy="9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ogo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3809880" cy="1150920"/>
          </a:xfrm>
          <a:prstGeom prst="rect">
            <a:avLst/>
          </a:prstGeom>
          <a:ln w="0">
            <a:noFill/>
          </a:ln>
        </p:spPr>
      </p:pic>
      <p:pic>
        <p:nvPicPr>
          <p:cNvPr id="45" name="phpcollab_logo" descr=""/>
          <p:cNvPicPr/>
          <p:nvPr/>
        </p:nvPicPr>
        <p:blipFill>
          <a:blip r:embed="rId2"/>
          <a:stretch/>
        </p:blipFill>
        <p:spPr>
          <a:xfrm>
            <a:off x="4876920" y="4572000"/>
            <a:ext cx="4000320" cy="102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52280"/>
            <a:ext cx="47404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HI Antho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GOUZO Isab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GHOUCHE Abdelkrim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INA Jonatha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895480"/>
            <a:ext cx="53337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ude et mise en place d’une plateforme de travail collabor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71640" y="1773360"/>
            <a:ext cx="720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liv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é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buClr>
                <a:srgbClr val="000000"/>
              </a:buClr>
              <a:buFont typeface="Times New Roman"/>
              <a:buAutoNum type="romanUcPeriod" startAt="2"/>
              <a:tabLst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ase de co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e de l’exi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herche d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5640" y="1660680"/>
            <a:ext cx="321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ase d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é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pCol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440" y="4267080"/>
            <a:ext cx="20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44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1676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8:48:39Z</dcterms:created>
  <dc:creator>default</dc:creator>
  <dc:description/>
  <dc:language>en-US</dc:language>
  <cp:lastModifiedBy>default</cp:lastModifiedBy>
  <dcterms:modified xsi:type="dcterms:W3CDTF">2005-04-06T09:39:34Z</dcterms:modified>
  <cp:revision>10</cp:revision>
  <dc:subject/>
  <dc:title>Présentation PowerPoint</dc:title>
</cp:coreProperties>
</file>