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684-8E1D-45B1-AE1D-0E1F5486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E1A-5229-4CE1-ACCB-3C8FEAB0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586-5136-4396-A556-7CD66792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09D-93AE-42BF-B1BE-729931AA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5E0-A771-4EAA-BD9A-5C1F2428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908-0607-42F3-86BA-63AF77D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667-1D47-4B19-BDCD-0D3136A9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92D-4C30-4276-988E-E1B60F20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9B6-8487-4C64-A90A-C83063CF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697-60ED-43D1-802D-53B30E76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2A0-C0BA-4D1D-8A4C-C9538B1F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76F-2F40-42BD-ACB2-5912EC0E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F0EB1194-DF7E-484F-8C8F-F1360D0980CF}" type="slidenum"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8640" y="58680"/>
          <a:ext cx="14617800" cy="1035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8680"/>
                    <a:ext cx="14617800" cy="10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ATaconnet</cp:lastModifiedBy>
  <dcterms:modified xsi:type="dcterms:W3CDTF">2007-02-23T11:13:56Z</dcterms:modified>
  <cp:revision>20</cp:revision>
  <dc:subject/>
  <dc:title>Présentation PowerPoint</dc:title>
</cp:coreProperties>
</file>