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CD2-F603-4672-8031-3BAC4D4E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B98-AF53-4064-B16E-ED0CC84D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A5B-61D5-4A4E-B95E-628800B5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42F-4C75-4139-A341-5A286E7C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1861-D4A0-4C28-9637-8896E7D1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E343-AD40-4870-B235-3A4B443E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DF45-DEBA-4845-9575-238B6FF8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C3B0-3EFB-4F2E-A19C-C6BCFEE0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55F6-90CE-4BBF-B930-4FCD342D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7F21-3F47-4CDC-94AF-CCDD08F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B8C1-9DEE-4FCA-8574-EEEDF747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4F7-97AE-4804-9487-172C4F92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F24C-6BEC-4FCA-AA71-B959BF9A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083A-5F37-41CE-B6C8-A3875CB9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903E-4E06-4FF9-A65E-B8757E6E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E78A-0FF1-490E-BED3-AD54936A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9B2D-3FEC-4A13-B28B-00B692BB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4B8-497F-4A39-B0BB-69FDFC55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C2E-8ABC-4D4C-9F11-677E3875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437-B2F4-4886-902D-A61FCC7E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78C-8063-4E17-A165-EFD58EA1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DD5-E6FF-4B89-AE02-728F7D45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74E-4748-4808-84AD-07F83826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083-D0DF-4A60-A47F-BDFBB2E6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EEA4-9F97-4FEE-B2D4-BFD18BB4A6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53720" cy="6858000"/>
            <a:chOff x="1440" y="0"/>
            <a:chExt cx="9153720" cy="6858000"/>
          </a:xfrm>
        </p:grpSpPr>
        <p:sp>
          <p:nvSpPr>
            <p:cNvPr id="42" name=""/>
            <p:cNvSpPr/>
            <p:nvPr/>
          </p:nvSpPr>
          <p:spPr>
            <a:xfrm>
              <a:off x="1440" y="0"/>
              <a:ext cx="1673280" cy="6858000"/>
            </a:xfrm>
            <a:prstGeom prst="rect">
              <a:avLst/>
            </a:prstGeom>
            <a:solidFill>
              <a:srgbClr val="556c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304920" y="2820960"/>
            <a:ext cx="1116000" cy="15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2820960"/>
                      <a:ext cx="11160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1677960" y="3789360"/>
              <a:ext cx="7466040" cy="3068640"/>
            </a:xfrm>
            <a:prstGeom prst="rect">
              <a:avLst/>
            </a:prstGeom>
            <a:solidFill>
              <a:srgbClr val="fac4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9280" y="5661000"/>
              <a:ext cx="122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Optima Bold"/>
                </a:rPr>
                <a:t>Direction du Système d’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1687680" y="3240"/>
              <a:ext cx="7467480" cy="37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21F2-BF87-480E-8F60-77EF138931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cole d’échang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 les MDPH et les CA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7640" y="4317480"/>
            <a:ext cx="65516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contre du 23 mars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’offre de service RMI actuel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sultation de la Base Allocatai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CAFPRO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nsfert de données de gestion mens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Flux XML Mensue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ableau de bord sur les Droits R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Tableau HTM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71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uverture de la consultation de la base allocataire à de nouveaux profils mét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volution du transfert de données de gestion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égration de nouvelles donn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tilisation du format xml standard du w3c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un transfert de données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fra-mensuel événement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’un tableau de bord financ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à disposition d’une téléprocédure : @IR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ématérialisation des échanges par transfert électronique réciproque d’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d’un travail partenarial au sein de groupes mixtes composés de représentant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nseils génér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aisses d’Allocation famil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 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 l ’égid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’Association des Départements de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s Allocations Famil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re proposition pour les MDP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e profils de consultation de la Base Allocataires adaptés aux métiers des MD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échanges de données entre les MDPH et les CAF (dans les deux se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lexion sur la dématérialisation complète du processus de traitement entre les MDPH et les C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7:47:41Z</dcterms:created>
  <dc:creator>Régis Pont</dc:creator>
  <dc:description/>
  <dc:language>en-US</dc:language>
  <cp:lastModifiedBy>caf de l'ain</cp:lastModifiedBy>
  <dcterms:modified xsi:type="dcterms:W3CDTF">2007-03-23T10:58:23Z</dcterms:modified>
  <cp:revision>10</cp:revision>
  <dc:subject/>
  <dc:title>Protocole d’échange  les MDPH et les CAF</dc:title>
</cp:coreProperties>
</file>