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022-FA99-41E0-9C97-82C3C88D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0C1-2A68-4938-B3F7-230BD44D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0C0-F3AC-4BF2-B34F-A977C100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F7D-1C01-4C46-9093-3EFBBC17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A94-5C51-44A0-B174-466A3D5D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226-EF07-4817-A8DD-02A6E34D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5D7-CD32-48A1-B7F6-A984E75D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74E-FA83-4829-8B59-A8A2B764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90B-E3B1-482F-B02B-C7266FE2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0F7-734E-4ABB-B9D0-558986BF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8F6-43B3-411E-88D8-378A97C8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242-4F34-4435-87D7-25B9DC6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E058273F-9A58-4D39-B519-EEC4131FDB7E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7800" y="112680"/>
          <a:ext cx="14847840" cy="104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12680"/>
                    <a:ext cx="14847840" cy="104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thierry.becco</cp:lastModifiedBy>
  <dcterms:modified xsi:type="dcterms:W3CDTF">2007-01-23T15:50:33Z</dcterms:modified>
  <cp:revision>14</cp:revision>
  <dc:subject/>
  <dc:title>Présentation PowerPoint</dc:title>
</cp:coreProperties>
</file>