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25F-83B5-4608-9A0B-A80A51C9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891-5511-40B7-BD75-C90547B0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922-EEE1-44A2-BAA7-8A2040A3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30A-22F9-43A3-81C5-7AD35B9B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D17D-213B-4266-BD09-805C46A3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A9D1-D1B8-4260-8FC6-E63CEC7D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BA9E-AD0D-49AE-B8DF-708BCB0A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227A-AC8C-4A46-9699-F54E6640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0C56-1FCA-4AF4-A50D-E0DC126C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4A40-14C9-483F-832A-F9F6DCCC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ADEC-38AD-4707-B172-547BE42F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2DD-2571-4DC6-B5DB-92F4C17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A205-2C5C-4F41-902C-BB266722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839D-3ED7-4BC1-AC18-9FBDA477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4834-B0D2-4F45-9A45-D625C99B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3598-C2D7-4194-9ADA-3916BC40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C91E-63E7-4490-989A-D20B0842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75C-16E2-47A3-A1D3-182CBCF2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6CD-2D1D-4BFB-9364-CA47AECE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D70-7222-434B-9269-6CF103E5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F31-74BE-45F4-B3EC-8253C2F1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195-7709-4802-A5E6-E73F16FB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E60-7736-43B2-97BC-3A8D14A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815-2B81-4E31-AF9C-E39DC19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145B-9921-4F68-B4F1-1B2DB9E54A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53720" cy="6858000"/>
            <a:chOff x="1440" y="0"/>
            <a:chExt cx="9153720" cy="6858000"/>
          </a:xfrm>
        </p:grpSpPr>
        <p:sp>
          <p:nvSpPr>
            <p:cNvPr id="42" name=""/>
            <p:cNvSpPr/>
            <p:nvPr/>
          </p:nvSpPr>
          <p:spPr>
            <a:xfrm>
              <a:off x="1440" y="0"/>
              <a:ext cx="1673280" cy="6858000"/>
            </a:xfrm>
            <a:prstGeom prst="rect">
              <a:avLst/>
            </a:prstGeom>
            <a:solidFill>
              <a:srgbClr val="556c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304920" y="2820960"/>
            <a:ext cx="111600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820960"/>
                      <a:ext cx="11160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1677960" y="3789360"/>
              <a:ext cx="7466040" cy="3068640"/>
            </a:xfrm>
            <a:prstGeom prst="rect">
              <a:avLst/>
            </a:prstGeom>
            <a:solidFill>
              <a:srgbClr val="fac4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9280" y="5661000"/>
              <a:ext cx="12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Optima Bold"/>
                </a:rPr>
                <a:t>Direction du Système d’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1687680" y="3240"/>
              <a:ext cx="746748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84E6-F62E-4F69-BA65-F8FBAA1597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e d’échang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 les MDPH et les CA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7640" y="4317480"/>
            <a:ext cx="6551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contre du 23 mars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offre de service RMI actuel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sultation de la Base Allocat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CAFPRO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ert de données de gestion mens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Flux XML Mensue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 de bord sur les Droits R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Tableau HTM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71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uverture de la consultation de la base allocataire à de nouveaux profils mét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volution du transfert de données de gestio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gration de nouvelles don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tilisation du format xml standard du w3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un transfert de donné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fra-mensuel événem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tableau de bord financ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à disposition d’une téléprocédure : @IR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ématérialisation des échanges par transfert électronique réciproque d’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d’un travail partenarial au sein de groupes mixtes composés de représentan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nseils génér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aisses d’Allocation famil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 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 l ’égi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’Association des Départements de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s Allocations Famil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re proposition pour les MDP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e profils de consultation de la Base Allocataires adaptés aux métiers des MD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échanges de données entre les MDPH et les CAF (dans les deux s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ion sur la dématérialisation complète du processus de traitement entre les MDPH et les C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47:41Z</dcterms:created>
  <dc:creator>Régis Pont</dc:creator>
  <dc:description/>
  <dc:language>en-US</dc:language>
  <cp:lastModifiedBy>caf de l'ain</cp:lastModifiedBy>
  <dcterms:modified xsi:type="dcterms:W3CDTF">2007-03-23T10:58:23Z</dcterms:modified>
  <cp:revision>10</cp:revision>
  <dc:subject/>
  <dc:title>Protocole d’échange  les MDPH et les CAF</dc:title>
</cp:coreProperties>
</file>