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3B0-242A-413C-84A6-74DFB8EF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E90-42C4-4682-886D-69A2E654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604-CF9F-4D22-B617-CDCE7332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9A8-588D-4E31-B28E-0525BF63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5C1-910A-4635-9837-AEB515DC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B95-2F92-43C9-8518-D5BF446E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113-6EFE-4464-BE81-A786EFA0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EC1-9247-456B-925B-E29B7697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9B6-8E5C-4EB9-A79B-0A93E798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2E0-5E21-4480-B138-A9BFD484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1CD-3AF5-4AB1-B187-EE21DE4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1EF-C2CD-45D9-B375-4D233531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1CF6-E8C6-4554-97C3-B4BE2D820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831" t="0" r="-18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8:29:17Z</dcterms:created>
  <dc:creator>ANTHONY SCHLEMER</dc:creator>
  <dc:description/>
  <dc:language>en-US</dc:language>
  <cp:lastModifiedBy>ANTHONY SCHLEMER</cp:lastModifiedBy>
  <dcterms:modified xsi:type="dcterms:W3CDTF">2008-01-08T08:29:42Z</dcterms:modified>
  <cp:revision>1</cp:revision>
  <dc:subject/>
  <dc:title>Diapositive 1</dc:title>
</cp:coreProperties>
</file>