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ADF-571F-4EFA-9566-F552B3FC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793-6B4B-4FB9-86B5-6776F4D1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0783-3506-4CF0-9C74-5DE3AFF4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2BFF-DB25-4824-A046-E4D222F3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4BF-5E8F-4EEB-BE44-6D47DA15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B290-A2FA-456E-9ADC-FF9A8088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66B8-7CE9-43D7-B628-1B06DF00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2359-B2A9-4F8B-86E6-C704B717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6EE-8210-4280-BA60-95EE3B1B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CA9-AF7E-44C5-83D2-16402C0C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2DD-1C3E-4C73-BC41-D2221749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0EA-52BC-4F49-A97D-85E9AC62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CFE1-FA9B-4625-A07D-C578AEC41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1831" t="0" r="-183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8:29:17Z</dcterms:created>
  <dc:creator>ANTHONY SCHLEMER</dc:creator>
  <dc:description/>
  <dc:language>en-US</dc:language>
  <cp:lastModifiedBy>ANTHONY SCHLEMER</cp:lastModifiedBy>
  <dcterms:modified xsi:type="dcterms:W3CDTF">2008-01-08T08:29:42Z</dcterms:modified>
  <cp:revision>1</cp:revision>
  <dc:subject/>
  <dc:title>Diapositive 1</dc:title>
</cp:coreProperties>
</file>