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DCF-E039-465D-A58E-FA28BEB7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286-F4A3-4BDE-B08F-1DEE2D9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171-0A63-4ED1-9F55-8CBAD5D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726-EE0D-4691-87D5-4F869727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32A-4C6B-4283-81DF-96A48A5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225-0FCD-4A41-8B77-8CC5835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06A-4F55-4F0F-9150-254F28F6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205-1FED-4A78-A2E8-1BD1617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491-C28B-405B-AB71-DFAAAC66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858-6A15-46D6-BA41-E45AFFD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C0F-7330-4E53-8269-9B7C613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5F2-D97D-4BBB-90D0-4AB1D70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5FB-1401-4B02-A489-441AECFC0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831" t="0" r="-18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8:29:17Z</dcterms:created>
  <dc:creator>ANTHONY SCHLEMER</dc:creator>
  <dc:description/>
  <dc:language>en-US</dc:language>
  <cp:lastModifiedBy>ANTHONY SCHLEMER</cp:lastModifiedBy>
  <dcterms:modified xsi:type="dcterms:W3CDTF">2008-01-08T08:29:42Z</dcterms:modified>
  <cp:revision>1</cp:revision>
  <dc:subject/>
  <dc:title>Diapositive 1</dc:title>
</cp:coreProperties>
</file>