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7393A-1E2F-4B53-8BC9-0F2EAD465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2718D-ACB4-4ABC-827E-DF4A102AD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A944E-2943-4421-AADA-51DC6ECDC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B6B2F-174D-44CB-8D39-714063F44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8EF76-BD7E-496C-AF53-C11D0FE1D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EB1B7-F889-4FA6-9578-0A6592898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E3FAE-5E92-4375-9EC5-F0FC573FD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88090-EB78-478C-961F-48C8BBB82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3E612-4F58-4230-BFA2-5837B4914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59C8E-E670-47C2-95C4-9E22126E7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7D866-FAAF-4EAE-9D08-0FD97E537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DBA8D-CBD1-4455-8B8E-FD0C8407D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2572F-37DE-42B1-9C3F-10A5FF507A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-2739" t="0" r="-2739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8T09:00:17Z</dcterms:created>
  <dc:creator>ANTHONY SCHLEMER</dc:creator>
  <dc:description/>
  <dc:language>en-US</dc:language>
  <cp:lastModifiedBy>ANTHONY SCHLEMER</cp:lastModifiedBy>
  <dcterms:modified xsi:type="dcterms:W3CDTF">2008-01-08T09:00:29Z</dcterms:modified>
  <cp:revision>1</cp:revision>
  <dc:subject/>
  <dc:title>Diapositive 1</dc:title>
</cp:coreProperties>
</file>