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5202-76DE-4144-BF9E-3E985F76D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BC7D-F4B8-48EB-AD93-C9EBC8EC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63C8-D811-4998-9895-B4B9BF3AB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EC94-724B-4887-8CAA-6CD871E8D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487E-0904-411A-834E-DDA5C49B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20FA-D5F1-4DC3-B8EB-378F7BDE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B803-9DB1-409B-9233-58B882AC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D2DF-775C-4A7F-ADC7-D478F9A6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C11F-9C29-4EFE-909C-25AA8033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128F-ADB3-43CE-A8C8-D7C74C8E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4839-74A6-4E38-9BC3-6CA543DA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97A0-09B3-4025-BEAB-790D55A5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8847-FC8D-4AFD-B6D4-0D6AE220C3B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8901" t="0" r="-313" b="0"/>
          <a:stretch/>
        </p:blipFill>
        <p:spPr>
          <a:xfrm>
            <a:off x="179280" y="187200"/>
            <a:ext cx="8785440" cy="6612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903000" y="6165720"/>
            <a:ext cx="1561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rojet MD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MCD V.0.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CG 54 – 22/06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-480" t="40994" r="81352" b="6000"/>
          <a:stretch/>
        </p:blipFill>
        <p:spPr>
          <a:xfrm>
            <a:off x="900000" y="333360"/>
            <a:ext cx="7417080" cy="6264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1360" y="260280"/>
            <a:ext cx="481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La table paramètres englobera toutes les tables de paramét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-753" t="0" r="-34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00760" y="4302000"/>
            <a:ext cx="1812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rojet MD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MPD_CakePHP V.0.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CG 54 – 22/06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3T08:18:05Z</dcterms:created>
  <dc:creator>ANTHONY SCHLEMER</dc:creator>
  <dc:description/>
  <dc:language>en-US</dc:language>
  <cp:lastModifiedBy>ANTHONY SCHLEMER</cp:lastModifiedBy>
  <dcterms:modified xsi:type="dcterms:W3CDTF">2007-07-03T09:22:53Z</dcterms:modified>
  <cp:revision>10</cp:revision>
  <dc:subject/>
  <dc:title>Diapositive 1</dc:title>
</cp:coreProperties>
</file>