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50F6-B9B0-4CCB-9C4C-BDF2B2FD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3390-928A-496C-8768-679E5AA4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5151-D0E6-40F3-BA13-7BD36174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9E30-6EF2-48B0-87A9-50B19898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923D-E048-48D8-9A5E-7DAF3F1A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4F8A-2770-47D0-9A36-57DA264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4385-364D-4011-B9BF-AD630509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0973-D331-4839-A1B3-F514DD53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648F-5AC7-4791-BC77-19552ECC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9D17-CC16-46B6-9107-D3E897CD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7CE0-E2C3-4A4D-A5E5-0CB70529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F3FA-4AE0-4C4E-96FB-DF4AA2BD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0095-3431-4989-A9A4-52BDFB40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DD34-A6C0-432C-A310-575CDEE4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897A-705F-474E-9877-1A504943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FD74-D37C-4D78-A458-F5390258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DFA0-40EC-4F3B-B404-493E2A1D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0290-F7EC-4D0E-AEB0-5D499DC7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11175-A6D2-4CB7-B150-84AFCDAF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2CAE-9615-4593-9A76-7CCC9C4B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8764-54D0-463E-B2B8-41A6294B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1A3C-9C05-44DC-9F70-0290E171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542B-8190-45E1-904D-A43B8BB3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617BC-B461-4C2C-A886-0D3815B3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96D95-4B3B-442E-BB21-E27C1397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C839-21E7-4E75-897D-5476EEF1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4B40-39B8-4CD6-A637-2B5F35F6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20876-63D0-49FF-B0BE-19D53735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AE7FF-0EA4-4345-9BC5-BFA9657B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8A15-E335-4FFE-A7A9-B4A835F2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9F5E-F435-41E2-A109-B66F7B2C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63D4-862B-4BEE-AF4E-EA1034AF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20E3-53CF-415C-9BCF-982A4615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9FBE-F442-4635-B409-5A7DD3A9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C032-6803-4DAE-A503-FB95CE38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FEE1-7F78-411D-B4B3-7F887546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C082-3F56-464A-9120-C389C235F051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1081-B99C-4628-8A43-2722A40258D2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837480" y="189000"/>
            <a:ext cx="2047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Communauté ACube</a:t>
            </a:r>
            <a:endParaRPr b="0" lang="en-US" sz="10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Simple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485640" cy="47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2777-A390-42CF-95C0-254B03F98CE2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8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666699"/>
                </a:solidFill>
                <a:latin typeface="Arial"/>
              </a:rPr>
              <a:t>Cette création est mise à disposition selon le Contrat Paternité - Pas d'Utilisation Commerciale - Partage des Conditions Initiales à l'Identique disponible en ligne http://creativecommons.org/licenses/by-nc-sa/2.0/fr/ ou par courrier postal à Creative Commons, 559 Nathan Abbott Way, Stanford, California 94305, U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LogoSimple" descr=""/>
          <p:cNvPicPr/>
          <p:nvPr/>
        </p:nvPicPr>
        <p:blipFill>
          <a:blip r:embed="rId2"/>
          <a:stretch/>
        </p:blipFill>
        <p:spPr>
          <a:xfrm>
            <a:off x="7467480" y="117360"/>
            <a:ext cx="1519200" cy="1482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529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C_SomeRightsReserved" descr=""/>
          <p:cNvPicPr/>
          <p:nvPr/>
        </p:nvPicPr>
        <p:blipFill>
          <a:blip r:embed="rId3"/>
          <a:stretch/>
        </p:blipFill>
        <p:spPr>
          <a:xfrm>
            <a:off x="1066680" y="5029200"/>
            <a:ext cx="83844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86C6-D11E-4FB6-8562-C35780DE7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dc:language>en-US</dc:language>
  <cp:lastModifiedBy>Pasquereau Gilles</cp:lastModifiedBy>
  <dcterms:modified xsi:type="dcterms:W3CDTF">2010-03-08T08:57:59Z</dcterms:modified>
  <cp:revision>13</cp:revision>
  <dc:subject/>
  <dc:title>Modèle de présentation PowerPoint</dc:title>
</cp:coreProperties>
</file>