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8F3-D87D-44B4-830E-CD48D40F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383-0CA2-46AA-A18B-08EFA945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3106-B0D4-4802-B8A1-4E3FA8AE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6EF-FF83-429A-8D6D-0808F9F1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49FE-A522-49A7-AFBA-D3F1CA8F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489C-D0C5-4AC7-BB75-FC41D4DD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6B6F-8265-4FBD-8DD9-E658D3C8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6213-BA83-4807-92CB-2A5B31BC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5001-969A-4C3D-BA20-1EEC58A5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1F63-F643-48FB-BD2B-E83F6045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3655-CE68-4407-AEC0-ADC5F80D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FF8-0E53-4F50-B4D5-D4258AB2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E226-07F9-48B8-A376-E278AD29B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533520" y="1752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  <a:ea typeface="Times New Roman"/>
              </a:rPr>
              <a:t>Réunion sur la Mutualisation des outils du suivi régional des parcours V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004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redi 3 décembr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GEFP -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\\srvec\travaux\COMMUNICATION\LOGOTHEQUE\LOGO DRTEFP\LOGO DRTEFP.jpg"/>
          <p:cNvPicPr/>
          <p:nvPr/>
        </p:nvPicPr>
        <p:blipFill>
          <a:blip r:embed="rId3"/>
          <a:stretch/>
        </p:blipFill>
        <p:spPr>
          <a:xfrm>
            <a:off x="436680" y="266760"/>
            <a:ext cx="733320" cy="78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\\srvec\travaux\COMMUNICATION\LOGOTHEQUE\LOGO EC\LOGO EC CARRE\LOGO EC CARRE.jpg"/>
          <p:cNvPicPr/>
          <p:nvPr/>
        </p:nvPicPr>
        <p:blipFill>
          <a:blip r:embed="rId4"/>
          <a:stretch/>
        </p:blipFill>
        <p:spPr>
          <a:xfrm>
            <a:off x="1952640" y="268200"/>
            <a:ext cx="774720" cy="7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349800" y="258840"/>
            <a:ext cx="1463400" cy="82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079960" y="316080"/>
            <a:ext cx="2011320" cy="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gions Contributrices : tableau de fin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514600"/>
          <a:ext cx="8305920" cy="2144880"/>
        </p:xfrm>
        <a:graphic>
          <a:graphicData uri="http://schemas.openxmlformats.org/drawingml/2006/table">
            <a:tbl>
              <a:tblPr/>
              <a:tblGrid>
                <a:gridCol w="1697040"/>
                <a:gridCol w="1841400"/>
                <a:gridCol w="1146240"/>
                <a:gridCol w="1103400"/>
                <a:gridCol w="1123920"/>
                <a:gridCol w="13939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ombre de régions particip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d’entr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développem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1ér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2ém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3ém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années suivantes (par 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, 5,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 et p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on Utilisa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 l’outil gratuitement dès sa mise en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t dans le test de l’appl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’acquitte dès la mise en service de la redevance pour développements futurs et pour maintenance tech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gion Utilisatrice : tableau de fin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2666880"/>
          <a:ext cx="7543800" cy="963360"/>
        </p:xfrm>
        <a:graphic>
          <a:graphicData uri="http://schemas.openxmlformats.org/drawingml/2006/table">
            <a:tbl>
              <a:tblPr/>
              <a:tblGrid>
                <a:gridCol w="2198520"/>
                <a:gridCol w="1433520"/>
                <a:gridCol w="1597320"/>
                <a:gridCol w="231444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d’entr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développemen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1ére 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2éme 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années suivantes (par a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utres coûts à pré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éber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ut-être pris en charge par l’opérateur ré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ternalisation possible par Adullact : 760 € ht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ompagnement pour l’ensemble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amétrage global : rubriques, indicateurs, périmè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udes techniques et assistance / certificateurs : faisabilité, règles de correspondance des champs, contraintes informa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ventions au niveau national (mutualis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de ré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362320"/>
            <a:ext cx="7848360" cy="3033720"/>
            <a:chOff x="838080" y="2362320"/>
            <a:chExt cx="7848360" cy="3033720"/>
          </a:xfrm>
        </p:grpSpPr>
        <p:sp>
          <p:nvSpPr>
            <p:cNvPr id="80" name=""/>
            <p:cNvSpPr/>
            <p:nvPr/>
          </p:nvSpPr>
          <p:spPr>
            <a:xfrm>
              <a:off x="7530120" y="2901600"/>
              <a:ext cx="14040" cy="245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5360" y="3001680"/>
              <a:ext cx="12960" cy="224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35760" y="2889000"/>
              <a:ext cx="14040" cy="235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080" y="2362320"/>
              <a:ext cx="1321560" cy="1011240"/>
            </a:xfrm>
            <a:custGeom>
              <a:avLst/>
              <a:gdLst>
                <a:gd name="textAreaLeft" fmla="*/ 0 w 1321560"/>
                <a:gd name="textAreaRight" fmla="*/ 1321920 w 132156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76" y="0"/>
                  </a:lnTo>
                  <a:lnTo>
                    <a:pt x="21600" y="10800"/>
                  </a:lnTo>
                  <a:lnTo>
                    <a:pt x="1827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gagements de Financ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90440" y="2362320"/>
              <a:ext cx="1276200" cy="1011960"/>
            </a:xfrm>
            <a:custGeom>
              <a:avLst/>
              <a:gdLst>
                <a:gd name="textAreaLeft" fmla="*/ 0 w 1276200"/>
                <a:gd name="textAreaRight" fmla="*/ 1276200 w 1276200"/>
                <a:gd name="textAreaTop" fmla="*/ 0 h 1011960"/>
                <a:gd name="textAreaBottom" fmla="*/ 1012320 h 101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67" y="0"/>
                  </a:lnTo>
                  <a:lnTo>
                    <a:pt x="21600" y="10800"/>
                  </a:lnTo>
                  <a:lnTo>
                    <a:pt x="17867" y="21600"/>
                  </a:lnTo>
                  <a:lnTo>
                    <a:pt x="0" y="21600"/>
                  </a:lnTo>
                  <a:lnTo>
                    <a:pt x="373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nalisation du cahier des char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71160" y="2362320"/>
              <a:ext cx="1569600" cy="101124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37" y="0"/>
                  </a:lnTo>
                  <a:lnTo>
                    <a:pt x="21600" y="10800"/>
                  </a:lnTo>
                  <a:lnTo>
                    <a:pt x="18337" y="21600"/>
                  </a:lnTo>
                  <a:lnTo>
                    <a:pt x="0" y="21600"/>
                  </a:lnTo>
                  <a:lnTo>
                    <a:pt x="326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73360" y="2362320"/>
              <a:ext cx="1569600" cy="101124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37" y="0"/>
                  </a:lnTo>
                  <a:lnTo>
                    <a:pt x="21600" y="10800"/>
                  </a:lnTo>
                  <a:lnTo>
                    <a:pt x="18337" y="21600"/>
                  </a:lnTo>
                  <a:lnTo>
                    <a:pt x="0" y="21600"/>
                  </a:lnTo>
                  <a:lnTo>
                    <a:pt x="326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veloppement Recette et test version bê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77720" y="2362320"/>
              <a:ext cx="1156680" cy="1011240"/>
            </a:xfrm>
            <a:custGeom>
              <a:avLst/>
              <a:gdLst>
                <a:gd name="textAreaLeft" fmla="*/ 0 w 1156680"/>
                <a:gd name="textAreaRight" fmla="*/ 1157040 w 11566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51" y="0"/>
                  </a:lnTo>
                  <a:lnTo>
                    <a:pt x="21600" y="10800"/>
                  </a:lnTo>
                  <a:lnTo>
                    <a:pt x="17251" y="21600"/>
                  </a:lnTo>
                  <a:lnTo>
                    <a:pt x="0" y="21600"/>
                  </a:lnTo>
                  <a:lnTo>
                    <a:pt x="4349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rre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9160" y="2362320"/>
              <a:ext cx="991080" cy="1011240"/>
            </a:xfrm>
            <a:custGeom>
              <a:avLst/>
              <a:gdLst>
                <a:gd name="textAreaLeft" fmla="*/ 0 w 991080"/>
                <a:gd name="textAreaRight" fmla="*/ 991440 w 9910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452" y="0"/>
                  </a:lnTo>
                  <a:lnTo>
                    <a:pt x="21600" y="10800"/>
                  </a:lnTo>
                  <a:lnTo>
                    <a:pt x="16452" y="21600"/>
                  </a:lnTo>
                  <a:lnTo>
                    <a:pt x="0" y="21600"/>
                  </a:lnTo>
                  <a:lnTo>
                    <a:pt x="5148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cette et livra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808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anv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5964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févr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8156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384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avr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4296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a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6488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u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5964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8156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0384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4296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6488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38600" y="4012920"/>
              <a:ext cx="412920" cy="336960"/>
            </a:xfrm>
            <a:prstGeom prst="star5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90560" y="4237560"/>
              <a:ext cx="13215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ersion bê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99040" y="3900600"/>
              <a:ext cx="1239120" cy="449280"/>
            </a:xfrm>
            <a:custGeom>
              <a:avLst/>
              <a:gdLst>
                <a:gd name="textAreaLeft" fmla="*/ 0 w 1239120"/>
                <a:gd name="textAreaRight" fmla="*/ 1239480 w 12391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33" y="0"/>
                  </a:lnTo>
                  <a:lnTo>
                    <a:pt x="21600" y="10800"/>
                  </a:lnTo>
                  <a:lnTo>
                    <a:pt x="19733" y="21600"/>
                  </a:lnTo>
                  <a:lnTo>
                    <a:pt x="0" y="21600"/>
                  </a:lnTo>
                  <a:lnTo>
                    <a:pt x="1867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nven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fs d’enga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362320"/>
            <a:ext cx="1322640" cy="1011240"/>
          </a:xfrm>
          <a:custGeom>
            <a:avLst/>
            <a:gdLst>
              <a:gd name="textAreaLeft" fmla="*/ 0 w 1322640"/>
              <a:gd name="textAreaRight" fmla="*/ 1323000 w 132264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76" y="0"/>
                </a:lnTo>
                <a:lnTo>
                  <a:pt x="21600" y="10800"/>
                </a:lnTo>
                <a:lnTo>
                  <a:pt x="182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gagements de Fin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90800" y="2362320"/>
            <a:ext cx="1276200" cy="1012680"/>
          </a:xfrm>
          <a:custGeom>
            <a:avLst/>
            <a:gdLst>
              <a:gd name="textAreaLeft" fmla="*/ 0 w 1276200"/>
              <a:gd name="textAreaRight" fmla="*/ 1276200 w 127620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7" y="0"/>
                </a:lnTo>
                <a:lnTo>
                  <a:pt x="21600" y="10800"/>
                </a:lnTo>
                <a:lnTo>
                  <a:pt x="17867" y="21600"/>
                </a:lnTo>
                <a:lnTo>
                  <a:pt x="0" y="21600"/>
                </a:lnTo>
                <a:lnTo>
                  <a:pt x="3733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alisation du cahier des char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059440"/>
            <a:ext cx="13226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anv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60720" y="5059440"/>
            <a:ext cx="1320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évr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373560"/>
            <a:ext cx="0" cy="202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60720" y="3373560"/>
            <a:ext cx="0" cy="202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886200"/>
            <a:ext cx="914400" cy="449280"/>
          </a:xfrm>
          <a:custGeom>
            <a:avLst/>
            <a:gdLst>
              <a:gd name="textAreaLeft" fmla="*/ 0 w 914400"/>
              <a:gd name="textAreaRight" fmla="*/ 914760 w 91440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3" y="0"/>
                </a:lnTo>
                <a:lnTo>
                  <a:pt x="21600" y="10800"/>
                </a:lnTo>
                <a:lnTo>
                  <a:pt x="19733" y="21600"/>
                </a:lnTo>
                <a:lnTo>
                  <a:pt x="0" y="21600"/>
                </a:lnTo>
                <a:lnTo>
                  <a:pt x="1867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56160" y="239868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2895480"/>
            <a:ext cx="3886200" cy="155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écessité d’un engagement des régions contributrices pour fin janvier / début février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vention d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ssée entre chaque région contributrice et ADULLACT-proj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a prestation de développement d’ADULLACT-proj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écise en contrepartie, la contribution financière que la région signataire s’engage à appor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trat de maintenance 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galement signé avec la SCIC ADULLACT-proj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bonnement souscrit par chaque région utilisatrice aux services proposé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 corrective curative ou préventiv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 évolutiv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élé-assistance fonctionnelle et tech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e montant et les modalités de la redevance annuelle dont la région doit s’acquitter en contrepartie de ces servi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e Charte d’utilisa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es obligations mutuelles de la région utilisatrice, de la SCIC ADULLACT-projet et du groupe des régions contributrices relatives à l’utilisation de l’outi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el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ieurs régions mettent en œuvre ou étudient le suivi des parcours V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 formes de mutualisation des outils informatiques sont possibles et perti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groupe de régions s’est formé en ce sens et s’est réuni les 6 octobre 2009,14 janvier, 11 mars et 29 juin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a abouti à une proposition concrète de développement et de financement d’un outil commun de suivi des parcours VAE qui est présenté aujourd’h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e la réun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anger sur la démarche Suivi des Parcours VAE avec la Mission VAE de la DGE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er la maquette de l’outil mutualisé Suivi des Parc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er les modes de financements de l’ou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illir un premier engagement des rég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h30 Accue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h30 Les ré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hanges avec la DGE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h45 L’outil mutual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h30 RE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h Le financement et l’engagement des ré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h30 Tour de table d’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h F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Présentation de l’outil </a:t>
            </a:r>
            <a:br>
              <a:rPr sz="4000"/>
            </a:b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Suivi régional des parcours VAE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Les coûts et le financement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ûts du pro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 estimé : 25 000 € T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nd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veloppement du logiciel Web d’extraction et de traitement des données certif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 la base de données des par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des premières statistiques descrip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 comprend p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, hébergement, accompag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s statistiques avanc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ûts du pro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aux développements futur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500 € pendant 2 ans (sauf exoné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 techn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 d'anomalies éventuel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ce en ligne. 3 000 € / an (sauf exoné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on Contribu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e financièrement au 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t dans le suivi de développ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 l’outil gratuitement dès sa mise en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érée de maintenance technique pendant deux ou trois ans (suivant le nomb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érée de participation aux développements fut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8:46:06Z</dcterms:created>
  <dc:creator>Bruno</dc:creator>
  <dc:description/>
  <dc:language>en-US</dc:language>
  <cp:lastModifiedBy>Bruno</cp:lastModifiedBy>
  <dcterms:modified xsi:type="dcterms:W3CDTF">2010-11-30T10:27:1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