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9502-0904-4F26-A408-1657C998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39D9-474C-44B9-8FE5-272588BC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A7D4-16E1-42D0-B844-B1C0A5B2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98C0-ECE2-4A5E-863D-F7B182E3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AD2A-D0A5-4A9D-8F00-8FB6FF0E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38A8-286C-49D7-865D-C054418B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ECCF-B2AF-4865-8710-687519ED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24EF-6513-4007-B8A1-68FBB52F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C483-C164-4F35-97B7-331319AC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B1F8-3AB4-416E-B0C8-536A701E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AC47-EF52-4425-9F41-1925B282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F506-6DB8-4C1F-9282-DBE5211F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0C2D-780D-49AA-9257-6299DAA3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2AFB-5A11-4FB4-B616-D22B250C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3A03-BE6A-460C-A3D1-DEB84285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5ECF-A0A7-4D2C-ABC9-8C761541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E269-BB48-462F-A32F-F9CDD2CD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B485-18FF-4928-9359-23EEEF0A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E0D4F-9288-4418-A159-5FEC4B52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3E05-22C8-40C0-8D90-D4BED738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F509-F81C-4E4A-A486-BBEE9E09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6C1E-932E-4D94-9081-76BB9CD9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70DD-3E3A-42D3-9DAC-DF5C6EE6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D1ADD-D8C6-4AF8-9ADF-CF069A43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4A34F-3ACA-4A68-B6D9-8A55E398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606E6-D611-46A7-AAB4-2D751C90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3C29-698C-4570-9469-5765E71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E5BF-D081-4233-A625-A15FE670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6C125-439F-438B-9361-62F114B8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7902-A0C7-4D6C-AF75-D6C1BA15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4021-D2FA-4B5D-B6F5-F3C796DB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0604-CC8A-439C-91A3-31FAE44C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BF93-0F27-484A-8C65-4CCF552F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C033-3BDC-4224-BF9D-A15C727D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C950-E525-48AB-850C-B8DF58FE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C3B8-0EE1-424C-8294-3BCD3AB0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7B47-4FBC-4B82-B5CB-403A7C48F8CF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D4A2-01E7-4AB1-B812-F9FE3104E02F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324480" y="228600"/>
            <a:ext cx="255276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Ministère des Affaires étrangères - DSI</a:t>
            </a:r>
            <a:endParaRPr b="0" lang="en-US" sz="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_Hornet_bitmap_500x348x128c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72840" cy="468360"/>
          </a:xfrm>
          <a:prstGeom prst="rect">
            <a:avLst/>
          </a:prstGeom>
          <a:ln w="0">
            <a:noFill/>
          </a:ln>
        </p:spPr>
      </p:pic>
      <p:sp>
        <p:nvSpPr>
          <p:cNvPr id="1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B5A7-5D67-46B0-BE38-F591120A6918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308640"/>
            <a:ext cx="896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66699"/>
                </a:solidFill>
                <a:latin typeface="Tahoma"/>
                <a:ea typeface="Times New Roman"/>
              </a:rPr>
              <a:t>Ce document est la propriété du Ministère des Affaires étrangères et ne peut être ni divulgué ni copié sans son autorisation. Les citations doivent mentionner la source.</a:t>
            </a:r>
            <a:r>
              <a:rPr b="0" lang="en-US" sz="1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8604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Logo_Hornet_bitmap_500x348x128c" descr=""/>
          <p:cNvPicPr/>
          <p:nvPr/>
        </p:nvPicPr>
        <p:blipFill>
          <a:blip r:embed="rId2"/>
          <a:stretch/>
        </p:blipFill>
        <p:spPr>
          <a:xfrm>
            <a:off x="6948360" y="115920"/>
            <a:ext cx="2070360" cy="1441440"/>
          </a:xfrm>
          <a:prstGeom prst="rect">
            <a:avLst/>
          </a:prstGeom>
          <a:ln w="0">
            <a:noFill/>
          </a:ln>
        </p:spPr>
      </p:pic>
      <p:pic>
        <p:nvPicPr>
          <p:cNvPr id="77" name="logo_MAE-BD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1738080" cy="1798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CC3D-E299-4D31-A1A7-64F71CF44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cp:keywords>Hornet Modele de présentation</cp:keywords>
  <dc:language>en-US</dc:language>
  <cp:lastModifiedBy>Sébastien PERCIER</cp:lastModifiedBy>
  <dcterms:modified xsi:type="dcterms:W3CDTF">2012-09-28T13:52:37Z</dcterms:modified>
  <cp:revision>27</cp:revision>
  <dc:subject/>
  <dc:title>Modèle de présentation PowerPoint</dc:title>
</cp:coreProperties>
</file>